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BF2A5-10AB-40F1-9D10-1CEA85661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35F6A-C71A-4770-9896-F0F5BD47E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E8076-542E-405E-B2B0-24DDB5EE4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F48C3-6C79-44AD-A6C7-40634E94D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5B2E9-9207-4889-A402-B039F96A1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4675D-BB2B-4E15-8D84-7126D5C9A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ADC2E-304A-442E-9BD3-3034A7497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10F59-2C22-48CE-947E-2C23A9030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19E70-2622-4990-A362-0153AEB62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69258-8CA5-4142-830F-4B310B92D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8BBA7-3A6B-4165-ADCF-E4A22B421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D8951-F5C4-475C-A2EF-E61C6737B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D9F7-6AD3-44BA-B44C-DB2D646E91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0" y="571500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14912943fKaDlcJqrA_ph" descr=""/>
          <p:cNvPicPr/>
          <p:nvPr/>
        </p:nvPicPr>
        <p:blipFill>
          <a:blip r:embed="rId1"/>
          <a:stretch/>
        </p:blipFill>
        <p:spPr>
          <a:xfrm>
            <a:off x="0" y="0"/>
            <a:ext cx="9144000" cy="6858000"/>
          </a:xfrm>
          <a:prstGeom prst="rect">
            <a:avLst/>
          </a:prstGeom>
          <a:ln w="0">
            <a:noFill/>
          </a:ln>
        </p:spPr>
      </p:pic>
      <p:sp>
        <p:nvSpPr>
          <p:cNvPr id="43" name=""/>
          <p:cNvSpPr/>
          <p:nvPr/>
        </p:nvSpPr>
        <p:spPr>
          <a:xfrm>
            <a:off x="974880" y="461340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5075280"/>
            <a:ext cx="9144000" cy="291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000000"/>
                </a:solidFill>
                <a:latin typeface="Arabic Transparent"/>
              </a:rPr>
              <a:t>أيها الملكُ السماوي المعزي روحُ الحق</a:t>
            </a:r>
            <a:r>
              <a:rPr b="1" lang="en-US" sz="3700" spc="-1" strike="noStrike">
                <a:solidFill>
                  <a:srgbClr val="000000"/>
                </a:solidFill>
                <a:latin typeface="Arabic Transparent"/>
              </a:rPr>
              <a:t> </a:t>
            </a:r>
            <a:r>
              <a:rPr b="1" lang="ar-SA" sz="3700" spc="-1" strike="noStrike">
                <a:solidFill>
                  <a:srgbClr val="000000"/>
                </a:solidFill>
                <a:latin typeface="Arabic Transparent"/>
              </a:rPr>
              <a:t>الحاضرُ في كل مكان والماليءُ الكل</a:t>
            </a:r>
            <a:r>
              <a:rPr b="1" lang="en-US" sz="3700" spc="-1" strike="noStrike">
                <a:solidFill>
                  <a:srgbClr val="000000"/>
                </a:solidFill>
                <a:latin typeface="Arabic Transparent"/>
              </a:rPr>
              <a:t> </a:t>
            </a:r>
            <a:r>
              <a:rPr b="1" lang="ar-SA" sz="3700" spc="-1" strike="noStrike">
                <a:solidFill>
                  <a:srgbClr val="000000"/>
                </a:solidFill>
                <a:latin typeface="Arabic Transparent"/>
              </a:rPr>
              <a:t>كنزُ الصالحاتِ ورازقُ الحياة هلم واسكن فينا</a:t>
            </a:r>
            <a:r>
              <a:rPr b="1" lang="en-US" sz="3700" spc="-1" strike="noStrike">
                <a:solidFill>
                  <a:srgbClr val="000000"/>
                </a:solidFill>
                <a:latin typeface="Arabic Transparent"/>
              </a:rPr>
              <a:t> </a:t>
            </a:r>
            <a:r>
              <a:rPr b="1" lang="ar-SA" sz="3700" spc="-1" strike="noStrike">
                <a:solidFill>
                  <a:srgbClr val="000000"/>
                </a:solidFill>
                <a:latin typeface="Arabic Transparent"/>
              </a:rPr>
              <a:t>طهرنا من كلِّ</a:t>
            </a:r>
            <a:r>
              <a:rPr b="1" lang="en-US" sz="3700" spc="-1" strike="noStrike">
                <a:solidFill>
                  <a:srgbClr val="000000"/>
                </a:solidFill>
                <a:latin typeface="Arabic Transparent"/>
              </a:rPr>
              <a:t> </a:t>
            </a:r>
            <a:r>
              <a:rPr b="1" lang="ar-SA" sz="3700" spc="-1" strike="noStrike">
                <a:solidFill>
                  <a:srgbClr val="000000"/>
                </a:solidFill>
                <a:latin typeface="Arabic Transparent"/>
              </a:rPr>
              <a:t>دنسٍ وخلص أيها الصالحُ نفوسَنا</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26653352dLerzNMpWg_ph" descr=""/>
          <p:cNvPicPr/>
          <p:nvPr/>
        </p:nvPicPr>
        <p:blipFill>
          <a:blip r:embed="rId1"/>
          <a:stretch/>
        </p:blipFill>
        <p:spPr>
          <a:xfrm>
            <a:off x="0" y="0"/>
            <a:ext cx="4151160" cy="6858000"/>
          </a:xfrm>
          <a:prstGeom prst="rect">
            <a:avLst/>
          </a:prstGeom>
          <a:ln w="0">
            <a:noFill/>
          </a:ln>
        </p:spPr>
      </p:pic>
      <p:sp>
        <p:nvSpPr>
          <p:cNvPr id="58" name=""/>
          <p:cNvSpPr/>
          <p:nvPr/>
        </p:nvSpPr>
        <p:spPr>
          <a:xfrm>
            <a:off x="4343400" y="304920"/>
            <a:ext cx="4343400" cy="81694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نصيرة المسيحيين التي لا تخزى ووسيطتهم الدائمة لدى الخالق.لا تعرضي عن أصوات الخطأة الطالبين إليك، بل بما أنك صالحة، بادري إلى معونتنا نحن الصارخين إليك بإيمان:هلمي إلى الشفاعة واسرعي إلى الابتهال.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والدة الإله، المحامية دائماً عن مكرميك</a:t>
            </a:r>
            <a:r>
              <a:rPr b="1" i="1" lang="ar-SA"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228600"/>
            <a:ext cx="8763120" cy="67467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نشـيد المثلـث التقدي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ك قدوس، أنت يا إلهنا، وإليك نرفع المجد، أيها الآب والا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80880"/>
            <a:ext cx="8915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0"/>
            <a:ext cx="8763120" cy="6914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قدوس الله، قدوس القوي، قدوس الذي لا يموت ارحمنا </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yios o Theos, Ayios Ishkiros, Ayios Athanatos, eleisson ima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مجد للآب والابن والروح القدس، الآن وكل أوان وإلى دهر الداهرين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ذي لا يموت ، ارحمنا.</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له، قدوس القوي، قدوس الذي لا يموت ارحمنا</a:t>
            </a:r>
            <a:r>
              <a:rPr b="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223920"/>
            <a:ext cx="9144000" cy="64839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قراءة الرسالة وقراءة الإنجيل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صل من 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حكمة !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ك. </a:t>
            </a:r>
            <a:r>
              <a:rPr b="1" lang="ar-SA" sz="3600" spc="-1" strike="noStrike">
                <a:solidFill>
                  <a:srgbClr val="000000"/>
                </a:solidFill>
                <a:latin typeface="Times New Roman"/>
                <a:cs typeface="Simplified Arabic"/>
              </a:rPr>
              <a:t>السلام لك أيها القاريء   </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وف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i="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للويا ، هللويا ،  هللوي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c80"/>
        </a:solidFill>
      </p:bgPr>
    </p:bg>
    <p:spTree>
      <p:nvGrpSpPr>
        <p:cNvPr id="1" name=""/>
        <p:cNvGrpSpPr/>
        <p:nvPr/>
      </p:nvGrpSpPr>
      <p:grpSpPr>
        <a:xfrm>
          <a:off x="0" y="0"/>
          <a:ext cx="0" cy="0"/>
          <a:chOff x="0" y="0"/>
          <a:chExt cx="0" cy="0"/>
        </a:xfrm>
      </p:grpSpPr>
      <p:sp>
        <p:nvSpPr>
          <p:cNvPr id="63" name=""/>
          <p:cNvSpPr/>
          <p:nvPr/>
        </p:nvSpPr>
        <p:spPr>
          <a:xfrm>
            <a:off x="2971800" y="0"/>
            <a:ext cx="6172200" cy="88542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cs typeface="Simplified Arabic"/>
              </a:rPr>
              <a:t>الحكمة، لنقف ونسمع الإنجيل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فصل شريف من بشارة القدي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الإنجيل المقدس</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ct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جلوســـاً (العظـــة)</a:t>
            </a:r>
            <a:endParaRPr b="0" lang="en-US" sz="3600" spc="-1" strike="noStrike">
              <a:solidFill>
                <a:srgbClr val="000000"/>
              </a:solidFill>
              <a:latin typeface="Times New Roman"/>
            </a:endParaRPr>
          </a:p>
        </p:txBody>
      </p:sp>
      <p:pic>
        <p:nvPicPr>
          <p:cNvPr id="64" name="273322_ph" descr=""/>
          <p:cNvPicPr/>
          <p:nvPr/>
        </p:nvPicPr>
        <p:blipFill>
          <a:blip r:embed="rId1"/>
          <a:stretch/>
        </p:blipFill>
        <p:spPr>
          <a:xfrm>
            <a:off x="-609480" y="533520"/>
            <a:ext cx="4724280" cy="483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304920"/>
            <a:ext cx="8763120" cy="6275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Times New Roman"/>
              </a:rPr>
              <a:t>   </a:t>
            </a:r>
            <a:r>
              <a:rPr b="1" i="1" lang="ar-SA" sz="3600" spc="-1" strike="noStrike">
                <a:solidFill>
                  <a:srgbClr val="ff0000"/>
                </a:solidFill>
                <a:latin typeface="Times New Roman"/>
                <a:ea typeface="Times New Roman"/>
              </a:rPr>
              <a:t>           </a:t>
            </a:r>
            <a:r>
              <a:rPr b="1" i="1" lang="ar-SA" sz="3600" spc="-1" strike="noStrike">
                <a:solidFill>
                  <a:srgbClr val="ff0000"/>
                </a:solidFill>
                <a:latin typeface="Times New Roman"/>
                <a:cs typeface="Simplified Arabic"/>
              </a:rPr>
              <a:t>خدمة الذبيح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حتى إذا كنا مصونين بعزّتك كلّ حين نرفع إليك المجد أيها الآب والإ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6019920" y="0"/>
            <a:ext cx="2895480" cy="10163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ccecff"/>
                </a:solidFill>
                <a:latin typeface="Times New Roman"/>
                <a:ea typeface="Simplified Arabic"/>
              </a:rPr>
              <a:t> أيها الممثلون الشروبيم سرياً، والمرنمون للثالوث المحي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ccecff"/>
                </a:solidFill>
                <a:latin typeface="Times New Roman"/>
                <a:cs typeface="Simplified Arabic"/>
              </a:rPr>
              <a:t>بالنشيد المثلث التقديس، فلنطرح عنا كل اهتمام دنيوي،</a:t>
            </a:r>
            <a:r>
              <a:rPr b="1" i="1" lang="ar-SA" sz="4000" spc="-1" strike="noStrike">
                <a:solidFill>
                  <a:srgbClr val="ccecff"/>
                </a:solidFill>
                <a:latin typeface="Times New Roman"/>
                <a:ea typeface="Simplified Arabic"/>
              </a:rPr>
              <a:t>	</a:t>
            </a:r>
            <a:r>
              <a:rPr b="1" i="1" lang="ar-SA" sz="4000" spc="-1" strike="noStrike">
                <a:solidFill>
                  <a:srgbClr val="ccecff"/>
                </a:solidFill>
                <a:latin typeface="Times New Roman"/>
                <a:cs typeface="Simplified Arabic"/>
              </a:rPr>
              <a:t>لنستقبل ملك الكل.</a:t>
            </a:r>
            <a:endParaRPr b="0" lang="en-US" sz="4000" spc="-1" strike="noStrike">
              <a:solidFill>
                <a:srgbClr val="000000"/>
              </a:solidFill>
              <a:latin typeface="Times New Roman"/>
            </a:endParaRPr>
          </a:p>
        </p:txBody>
      </p:sp>
      <p:pic>
        <p:nvPicPr>
          <p:cNvPr id="67" name="49438873JQfExr_ph" descr=""/>
          <p:cNvPicPr/>
          <p:nvPr/>
        </p:nvPicPr>
        <p:blipFill>
          <a:blip r:embed="rId1"/>
          <a:stretch/>
        </p:blipFill>
        <p:spPr>
          <a:xfrm>
            <a:off x="0" y="0"/>
            <a:ext cx="6172200" cy="6858000"/>
          </a:xfrm>
          <a:prstGeom prst="rect">
            <a:avLst/>
          </a:prstGeom>
          <a:ln w="0">
            <a:noFill/>
          </a:ln>
        </p:spPr>
      </p:pic>
      <p:sp>
        <p:nvSpPr>
          <p:cNvPr id="68" name=""/>
          <p:cNvSpPr/>
          <p:nvPr/>
        </p:nvSpPr>
        <p:spPr>
          <a:xfrm>
            <a:off x="3809880" y="533520"/>
            <a:ext cx="48769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
          <p:cNvSpPr/>
          <p:nvPr/>
        </p:nvSpPr>
        <p:spPr>
          <a:xfrm>
            <a:off x="0" y="0"/>
            <a:ext cx="3048120" cy="89442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Simplified Arabic"/>
              </a:rPr>
              <a:t>يذكر الرب الإله جميعنا في ملكوته كل حين، الآن وكل أوان وإلى دهر الداهر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ea typeface="Simplified Arabic"/>
              </a:rPr>
              <a:t> </a:t>
            </a:r>
            <a:r>
              <a:rPr b="1" i="1" lang="ar-SA" sz="4000" spc="-1" strike="noStrike">
                <a:solidFill>
                  <a:srgbClr val="ffcc66"/>
                </a:solidFill>
                <a:latin typeface="Times New Roman"/>
                <a:cs typeface="Simplified Arabic"/>
              </a:rPr>
              <a:t>آمين. تحف به الطغمات الملائكية على حال غير منظور.</a:t>
            </a:r>
            <a:r>
              <a:rPr b="1" i="1" lang="en-US" sz="4000" spc="-1" strike="noStrike">
                <a:solidFill>
                  <a:srgbClr val="ffcc66"/>
                </a:solidFill>
                <a:latin typeface="Times New Roman"/>
                <a:ea typeface="Simplified Arabic"/>
              </a:rPr>
              <a:t> </a:t>
            </a:r>
            <a:r>
              <a:rPr b="1" i="1" lang="ar-SA" sz="4000" spc="-1" strike="noStrike">
                <a:solidFill>
                  <a:srgbClr val="ffcc66"/>
                </a:solidFill>
                <a:latin typeface="Times New Roman"/>
                <a:cs typeface="Simplified Arabic"/>
              </a:rPr>
              <a:t>هللويا</a:t>
            </a:r>
            <a:r>
              <a:rPr b="1" i="1" lang="en-US" sz="4000" spc="-1" strike="noStrike">
                <a:solidFill>
                  <a:srgbClr val="ffcc66"/>
                </a:solidFill>
                <a:latin typeface="Times New Roman"/>
                <a:ea typeface="Simplified Arabic"/>
              </a:rPr>
              <a:t>.</a:t>
            </a:r>
            <a:endParaRPr b="0" lang="en-US" sz="4000" spc="-1" strike="noStrike">
              <a:solidFill>
                <a:srgbClr val="000000"/>
              </a:solidFill>
              <a:latin typeface="Times New Roman"/>
            </a:endParaRPr>
          </a:p>
        </p:txBody>
      </p:sp>
      <p:pic>
        <p:nvPicPr>
          <p:cNvPr id="70" name="2151970xomuSiowLC_ph" descr=""/>
          <p:cNvPicPr/>
          <p:nvPr/>
        </p:nvPicPr>
        <p:blipFill>
          <a:blip r:embed="rId1"/>
          <a:stretch/>
        </p:blipFill>
        <p:spPr>
          <a:xfrm>
            <a:off x="3124080" y="0"/>
            <a:ext cx="8993160" cy="975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8939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تقدمة القاربين</a:t>
            </a:r>
            <a:endParaRPr b="0" lang="en-US" sz="3200" spc="-1" strike="noStrike">
              <a:solidFill>
                <a:srgbClr val="000000"/>
              </a:solidFill>
              <a:latin typeface="Times New Roman"/>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جلوساً</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لنكمل طلبتنا إلى الرب.</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lang="ar-SA" sz="3200" spc="-1" strike="noStrike">
                <a:solidFill>
                  <a:srgbClr val="ff0000"/>
                </a:solidFill>
                <a:latin typeface="Times New Roman"/>
                <a:ea typeface="Simplified Arabic"/>
              </a:rPr>
              <a:t>	</a:t>
            </a:r>
            <a:r>
              <a:rPr b="1" i="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إله القدير القدوس وحدك، القابل ذبيحة التسبيح من الذين يدعونك بكل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قلوبهم، تقبل منا أيضاً نحن الخطأة طلبتنا، وقدمها إلى مذبحك المقدس، واجعلنا جديرين بأن نقدم لك قرابين وذبائح روحية، عن خطايانا وجهالات الشعب. وأهلنا لأن نصيب حظوة في عينيك، فتكون ذبيحتنا مرضية لديك، ويستقر روح</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نعمتك الصالح علينا، وعلى هذه القرابين المقدمة، وعلى شعبك كله.</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برأفة ابنك الوحيد، الذي أنت مبار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معه ومع روح القدوس الصالح المحيي، الآن وكل أوان وإلى دهر الداهرين.</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ea typeface="Simplified Arabic"/>
              </a:rPr>
              <a:t> 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آ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
          <p:cNvSpPr/>
          <p:nvPr/>
        </p:nvSpPr>
        <p:spPr>
          <a:xfrm>
            <a:off x="3200400" y="0"/>
            <a:ext cx="5943600" cy="6811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المصافحة الأخوية</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حب بعضنا بعضا لكي نعترف بنية واحدة.</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بالآب والابن والروح القدس، الثالوث الواحد في                      الجوهر، وغير المنفص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 name="21303917YvwWhKWccB_ph" descr=""/>
          <p:cNvPicPr/>
          <p:nvPr/>
        </p:nvPicPr>
        <p:blipFill>
          <a:blip r:embed="rId1"/>
          <a:stretch/>
        </p:blipFill>
        <p:spPr>
          <a:xfrm>
            <a:off x="0" y="0"/>
            <a:ext cx="3200400" cy="5486400"/>
          </a:xfrm>
          <a:prstGeom prst="rect">
            <a:avLst/>
          </a:prstGeom>
          <a:ln w="0">
            <a:noFill/>
          </a:ln>
        </p:spPr>
      </p:pic>
      <p:sp>
        <p:nvSpPr>
          <p:cNvPr id="74" name=""/>
          <p:cNvSpPr/>
          <p:nvPr/>
        </p:nvSpPr>
        <p:spPr>
          <a:xfrm>
            <a:off x="0" y="548640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Patera, Ion, Ke Ahion Pnevma, Triada omoousion ke ahkorist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563400"/>
            <a:ext cx="7924680" cy="6971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00"/>
                </a:solidFill>
                <a:latin typeface="Simplified Arabic"/>
                <a:cs typeface="Simplified Arabic"/>
              </a:rPr>
              <a:t>الكاهن:</a:t>
            </a:r>
            <a:r>
              <a:rPr b="1" lang="ar-SA" sz="6000" spc="-1" strike="noStrike">
                <a:solidFill>
                  <a:srgbClr val="ff0000"/>
                </a:solidFill>
                <a:latin typeface="Simplified Arabic"/>
                <a:ea typeface="Simplified Arabic"/>
              </a:rPr>
              <a:t>	</a:t>
            </a:r>
            <a:r>
              <a:rPr b="1" lang="ar-SA" sz="6000" spc="-1" strike="noStrike">
                <a:solidFill>
                  <a:srgbClr val="000000"/>
                </a:solidFill>
                <a:latin typeface="Simplified Arabic"/>
                <a:cs typeface="Simplified Arabic"/>
              </a:rPr>
              <a:t>مباركة مملكة الآب والابن والروح القدس، الآن وكل أوان وإلى دهر الداهرين.</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00"/>
                </a:solidFill>
                <a:latin typeface="Times New Roman"/>
                <a:cs typeface="Simplified Arabic"/>
              </a:rPr>
              <a:t>الشعب: </a:t>
            </a:r>
            <a:r>
              <a:rPr b="1" i="1" lang="ar-SA" sz="6000" spc="-1" strike="noStrike">
                <a:solidFill>
                  <a:srgbClr val="000000"/>
                </a:solidFill>
                <a:latin typeface="Times New Roman"/>
                <a:cs typeface="Simplified Arabic"/>
              </a:rPr>
              <a:t>آمين</a:t>
            </a:r>
            <a:r>
              <a:rPr b="1" i="1" lang="ar-SA" sz="6000" spc="-1" strike="noStrike">
                <a:solidFill>
                  <a:srgbClr val="000000"/>
                </a:solidFill>
                <a:latin typeface="Times New Roman"/>
              </a:rPr>
              <a:t>.</a:t>
            </a:r>
            <a:r>
              <a:rPr b="1" lang="ar-SA" sz="6000" spc="-1" strike="noStrike">
                <a:solidFill>
                  <a:srgbClr val="ff0000"/>
                </a:solidFill>
                <a:latin typeface="Simplified Arabic"/>
              </a:rPr>
              <a:t>  </a:t>
            </a:r>
            <a:endParaRPr b="0" lang="en-US" sz="6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8915400" cy="8858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قانون الإيما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Times New Roman"/>
              </a:rPr>
              <a:t>بحكمة فلنصغ</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2800" spc="-1" strike="noStrike">
                <a:solidFill>
                  <a:srgbClr val="000000"/>
                </a:solidFill>
                <a:latin typeface="Times New Roman"/>
                <a:ea typeface="Simplified Arabic"/>
              </a:rPr>
              <a:t>	</a:t>
            </a:r>
            <a:r>
              <a:rPr b="1" i="1" lang="ar-SA" sz="2800" spc="-1" strike="noStrike">
                <a:solidFill>
                  <a:srgbClr val="000000"/>
                </a:solidFill>
                <a:latin typeface="Times New Roman"/>
                <a:cs typeface="Simplified Arabic"/>
              </a:rPr>
              <a:t>نؤمن بإله واحد، آب ضابط الكل، خالق السماء والأرض، كل ما يرى وما لا يرى. وبرب واحد يسوع المسيح ، ابن الله الوحيد، المولود من الآب قبل كل الدهور، نور من نور ، إله حق من إله حق، مولود غير مخلوق، مساوٍ لللآب  في الجوهر، الذي به كان كل شيء، الذي من أجلنا نحن البشر، ومن أجل خلاصنا، نزل من السماء، وتجسد من الروح القدس ومن مريم العذراء وتأنس، وصلب عنا على عهد بيلاطس البنطي. وتألم وقبر. وقام في اليوم الثالث كما في الكتب، وصعد إلى السماء، وجلس عن يمين الآب. وأيضا يأتي بمجد عظيم ليدين الأحياء والأموات، الذي لا فناء لمكله. وبالروح القدس، الرب المحيي، المنبثق من الآب والابن، الذي هو مع الآب والابن، يسجد له ويمجد، الناطق بالأنبياء وبكنيسة واحدة، جامعة، مقدسة، رسولية. ونعترف بمعمودية واحدة لمغفرة الخطايا. ونترجى قيامة الموتى والحياة في الدهر الآتي.   آمــيــن</a:t>
            </a:r>
            <a:r>
              <a:rPr b="1" i="1" lang="ar-SA" sz="2800" spc="-1" strike="noStrike">
                <a:solidFill>
                  <a:srgbClr val="000000"/>
                </a:solidFill>
                <a:latin typeface="Times New Roman"/>
                <a:ea typeface="Times New Roman"/>
              </a:rPr>
              <a:t>.</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ـذبـيـحــ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قف حسنا. ولنقف بتهيّب. فلنصغ لنقدم بسلام القربان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رحمة سلام، ذبيحة نسبيح.</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Eleon irinis, thisian eneseo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عمة ربنا يسوع المسيح، ومحبة الله الآب +  وشركة الروح القدس، فلتكن مع 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Ke meta tou pnevmatos sou</a:t>
            </a: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304920"/>
            <a:ext cx="8763120" cy="4815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رفع قلوبنا إلى العلا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ها هي عند الرب</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Ekhomen pros ton Kyri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شكرن ال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اجب وحق</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Axion ke dikeon</a:t>
            </a:r>
            <a:r>
              <a:rPr b="0" lang="ar-SA" sz="2400" spc="-1" strike="noStrike">
                <a:solidFill>
                  <a:srgbClr val="000000"/>
                </a:solidFill>
                <a:latin typeface="Times New Roman"/>
              </a:rPr>
              <a:t> </a:t>
            </a:r>
            <a:r>
              <a:rPr b="0" lang="en-US" sz="2400" spc="-1" strike="noStrike">
                <a:solidFill>
                  <a:srgbClr val="000000"/>
                </a:solidFill>
                <a:latin typeface="Times New Roman"/>
              </a:rPr>
              <a:t> </a:t>
            </a:r>
            <a:r>
              <a:rPr b="1" i="1" lang="en-US" sz="3600" spc="-1" strike="noStrike">
                <a:solidFill>
                  <a:srgbClr val="000000"/>
                </a:solidFill>
                <a:latin typeface="Times New Roman"/>
              </a:rPr>
              <a:t>Est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941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cs typeface="Simplified Arabic"/>
              </a:rPr>
              <a:t>ك.</a:t>
            </a:r>
            <a:r>
              <a:rPr b="1" lang="en-US"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جب وحق أن نسبحك ونباركك، ونشيد لك ونشكرك، ونسجد لك في كل مواضع سيادتك. فإنك أنت الاله الذي لا يفي به وصف، ولا يحده عقل، ولا يرى ولا يدرك، الدائم الوجود، والكائن هو هو، أنت وابنك الوحيد وروحك القدوس. أنت أخرجتنا من العدم إلى الوجود، وبعد أن سقطنا عدت فأقمتنا. وما زلت تصنع كل شيء حتى أصعدتنا إلى السماء، وأنعمت علينا بملكك الآتي. فمن أجل هذه كلها نشكرك، ونشكر ابنك الوحيد وروحك القدوس. كما نشكر لك كل ما نلنا من احساناتك، المعروفة والمجهولة، الظاهرة والخفية. ونشكر لك أيضا هذه الخدمة، التي ارتضيت أن تقبلها من أيدينا، مع أن ألوفاً من رؤساء الملائكة وربوات من الملائكة، ماثلون لديك، الشروبيم والسرافيم، ذوي الأجنحة الستة والعيون الكثيرة، محلقين وطائرين</a:t>
            </a:r>
            <a:r>
              <a:rPr b="1" lang="ar-SA" sz="1400" spc="-1" strike="noStrike">
                <a:solidFill>
                  <a:srgbClr val="000000"/>
                </a:solidFill>
                <a:latin typeface="Times New Roman"/>
                <a:ea typeface="Simplified Arabic"/>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8106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رنمين بنشيد الظفر، هاتفين وصارخين وقائل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قدوس، قدوس، قدوس، رب الصبؤوت. السماء والأرض مملوئتان من مجدك.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وشعنا في الأعالي. مبارك الآتي باسم الرب. هو شعنا في الأعالي.</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Ahios, ahios, ahios, Kyrios Savaoth;</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pliris o ouranos ke I hi ti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doxis sou, Ossana en dis ipsistis, Evlohimenos o erkhomenos en</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Onomati kiriou, Ossana o en dis ipsisti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304920"/>
            <a:ext cx="8915400" cy="9158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مع هذه القوات المغبوطة، نهتف نحن أيضا أيها السيد المحب البشر ونقول: قدوس أنت وكامل القداسة، أنت وابنك الوحيد وروحك القدوس. قدوس أنت وكامل القداسة، وعظيم جلال مجدك. لقد أحببت عالمك ، حتى أنك بذلت ابنك الوحيد، لكي لا يهلك من يؤمن به، بك تكون له الحياة الأبدية. فهذا أتى وأكمل كل ما دبرته عنايتك بشأننا. وفي الليلة التي أسلم فيها، أو بالحرى أسلم ذاته لأجل حياة العالم، أخذ خبز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بيديه المقدستين الطاهرتين اللتين لا عيب فيهما ، فشكر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وبارك وقدس وكسر، وأعطى تلاميذه القديسين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81" name=""/>
          <p:cNvSpPr/>
          <p:nvPr/>
        </p:nvSpPr>
        <p:spPr>
          <a:xfrm>
            <a:off x="5867280" y="450720"/>
            <a:ext cx="3276720" cy="7821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قـديـــ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خذوا فكلوا، هذا هو جسدي ، الذي يكسر لأجلكم، لمغفرة الخطاي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ffff"/>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وكذلك الكأس بعد العشاء،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2" name="25421475MWaVWSSKTq_ph" descr=""/>
          <p:cNvPicPr/>
          <p:nvPr/>
        </p:nvPicPr>
        <p:blipFill>
          <a:blip r:embed="rId1"/>
          <a:stretch/>
        </p:blipFill>
        <p:spPr>
          <a:xfrm>
            <a:off x="0" y="0"/>
            <a:ext cx="586728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6521646nDdWDwXPxk_ph" descr=""/>
          <p:cNvPicPr/>
          <p:nvPr/>
        </p:nvPicPr>
        <p:blipFill>
          <a:blip r:embed="rId1"/>
          <a:stretch/>
        </p:blipFill>
        <p:spPr>
          <a:xfrm>
            <a:off x="0" y="0"/>
            <a:ext cx="5715000" cy="6858000"/>
          </a:xfrm>
          <a:prstGeom prst="rect">
            <a:avLst/>
          </a:prstGeom>
          <a:ln w="0">
            <a:noFill/>
          </a:ln>
        </p:spPr>
      </p:pic>
      <p:sp>
        <p:nvSpPr>
          <p:cNvPr id="84" name=""/>
          <p:cNvSpPr/>
          <p:nvPr/>
        </p:nvSpPr>
        <p:spPr>
          <a:xfrm>
            <a:off x="5943600" y="838080"/>
            <a:ext cx="2971800" cy="6414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9966"/>
                </a:solidFill>
                <a:latin typeface="Times New Roman"/>
                <a:ea typeface="Simplified Arabic"/>
              </a:rPr>
              <a:t>	</a:t>
            </a:r>
            <a:r>
              <a:rPr b="1" lang="ar-SA" sz="3600" spc="-1" strike="noStrike">
                <a:solidFill>
                  <a:srgbClr val="ff9966"/>
                </a:solidFill>
                <a:latin typeface="Times New Roman"/>
                <a:cs typeface="Simplified Arabic"/>
              </a:rPr>
              <a:t>اشربوا من هذا كلكم، هذا هو دمي للعهد الجديد، الذي يهراق عنكم وعن كثيرين لمغفرة الخطايا</a:t>
            </a:r>
            <a:r>
              <a:rPr b="1" lang="ar-SA" sz="3600" spc="-1" strike="noStrike">
                <a:solidFill>
                  <a:srgbClr val="000000"/>
                </a:solidFill>
                <a:latin typeface="Times New Roman"/>
                <a:ea typeface="Simplified Arabic"/>
              </a:rPr>
              <a:t>.</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9966"/>
                </a:solidFill>
                <a:latin typeface="Times New Roman"/>
                <a:cs typeface="Simplified Arabic"/>
              </a:rPr>
              <a:t>آمين</a:t>
            </a:r>
            <a:r>
              <a:rPr b="1" i="1" lang="ar-SA" sz="3600" spc="-1" strike="noStrike">
                <a:solidFill>
                  <a:srgbClr val="ff9966"/>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304920"/>
            <a:ext cx="9144000" cy="42433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ـقــدم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ا لك، مما هو لك، نقربه لك عن كل شيء، ومن أجل كل شي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إياك نسبح. إياك نبارك. لك نشكر، يا رب، وإليك نطلب، يا إلهن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30492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0" y="228600"/>
            <a:ext cx="9144000" cy="7844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سـتدعـاء الـروح القـ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قرب لك أيضا هذه العبادة الروحية غير الدموية، ونبتهل ونطلب ونتضرع. فأرسل روحك علينا، وعلى هذه القرابين الحاضر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جعل هذا الخبز جسد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ما في هذه الكأس دم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7356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a:t>
            </a:r>
            <a:r>
              <a:rPr b="1" lang="ar-SA" sz="4000" spc="-1" strike="noStrike">
                <a:solidFill>
                  <a:srgbClr val="ff0000"/>
                </a:solidFill>
                <a:latin typeface="Times New Roman"/>
                <a:cs typeface="Simplified Arabic"/>
              </a:rPr>
              <a:t>جلوساً</a:t>
            </a:r>
            <a:endParaRPr b="0" lang="en-US" sz="40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بسلام،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جل السلام العلوي وخلاص نفوسنا،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Times New Roman"/>
              </a:rPr>
              <a:t>لأجل سلام العالم أجمع وثبات كنائس الله المقدسة واتحاد الجميع، إلى الرب نطل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04920"/>
            <a:ext cx="8458200" cy="67467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حوّلاً إياهما بروحك القدو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 ، آمين، أ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خصوصاً سيدتنا الكاملة القداسة الطاهرة، الفائقة البركات المجيدة ، والدة الإله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دائمة البتولية م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جلوسـ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19040" y="457200"/>
            <a:ext cx="8305920" cy="77864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imes New Roman"/>
                <a:cs typeface="Simplified Arabic"/>
              </a:rPr>
              <a:t>ش.</a:t>
            </a:r>
            <a:r>
              <a:rPr b="1" lang="ar-SA" sz="4800" spc="-1" strike="noStrike">
                <a:solidFill>
                  <a:srgbClr val="ff0000"/>
                </a:solidFill>
                <a:latin typeface="Times New Roman"/>
                <a:ea typeface="Simplified Arabic"/>
              </a:rPr>
              <a:t>	</a:t>
            </a:r>
            <a:r>
              <a:rPr b="1" i="1" lang="ar-SA" sz="4800" spc="-1" strike="noStrike">
                <a:solidFill>
                  <a:srgbClr val="000000"/>
                </a:solidFill>
                <a:latin typeface="Times New Roman"/>
                <a:cs typeface="Simplified Arabic"/>
              </a:rPr>
              <a:t>إنه واجب حقا أن نغبطك ، يا والدة الإله، الدائمة الغبطة، المنزهة عن كل عيب، وأم إلهنا. يا من هي أكرم من الشروبيم. وأمجد بلا قياس من السرافيم، يا من ولدت الله الكلمة ولبثت بتولا، إنك حقاً والدة الإله، إياك نعظم.</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 y="0"/>
            <a:ext cx="9144000" cy="83826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أذكر يا رب الحبر الروماني البابا.. الطوباوي. وبطريركنا.. المغبوط. ورئيس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كهنتنا.. الموقر وأنعم على كنائسك المقدسة أن يكونوا في سلام، أصحاء، مكرمين معافين، مديدي الأيام، مفصلين بأحكام </a:t>
            </a:r>
            <a:r>
              <a:rPr b="1" lang="ar-SA" sz="4000" spc="-1" strike="noStrike">
                <a:solidFill>
                  <a:srgbClr val="000000"/>
                </a:solidFill>
                <a:latin typeface="Times New Roman"/>
                <a:cs typeface="Times New Roman"/>
              </a:rPr>
              <a:t>كلمة</a:t>
            </a:r>
            <a:r>
              <a:rPr b="1" lang="ar-SA" sz="3400" spc="-1" strike="noStrike">
                <a:solidFill>
                  <a:srgbClr val="000000"/>
                </a:solidFill>
                <a:latin typeface="Times New Roman"/>
                <a:ea typeface="Simplified Arabic"/>
              </a:rPr>
              <a:t> حقك.</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ذكر يا رب هذا الشعب الحاضر والخاطرين ببال كل واحد منا، وجميعهم وجميعه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 </a:t>
            </a:r>
            <a:r>
              <a:rPr b="1" lang="ar-SA" sz="3400" spc="-1" strike="noStrike">
                <a:solidFill>
                  <a:srgbClr val="000000"/>
                </a:solidFill>
                <a:latin typeface="Times New Roman"/>
                <a:cs typeface="Simplified Arabic"/>
              </a:rPr>
              <a:t>وجميعهم وجميعه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أعطنا أن نمجد ونسبح بفم واحد وقلب واحد، اسمك الجدير بكل كرامة والعظيم الجلال، أيها الآب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لابن والروح القدس، الآن وكل أوان وإلى دهر الداهرين .</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400" spc="-1" strike="noStrike">
                <a:solidFill>
                  <a:srgbClr val="000000"/>
                </a:solidFill>
                <a:latin typeface="Times New Roman"/>
                <a:cs typeface="Simplified Arabic"/>
              </a:rPr>
              <a:t>آمين.</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28600" y="0"/>
            <a:ext cx="8458200" cy="26946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ea typeface="Simplified Arabic"/>
              </a:rPr>
              <a:t> ك.</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لتكن مراحم إلهنا العظيم ومخلصنا يسوع المسيح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مع جميعكم.</a:t>
            </a:r>
            <a:endParaRPr b="0" lang="en-US" sz="34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28600" y="0"/>
            <a:ext cx="84582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هـيـئـة للمنـاول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يكون نهارنا كله كاملاً مقدساً سلامياً وب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طيئة،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لاك سلام مرشداً أمينا، حارساً نفوسنا وأجساد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مسامحة بخطايانا وغفران ذنوبنا،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304920"/>
            <a:ext cx="8839080" cy="696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خيرات الموافقة لنفوسنا والسلام للعالم، الرب</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نقضي الزمن الباقي من حياتنا بسلام وتوب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تكون أواخر حياتنا مسيحية سلامية، بلا وجع و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زي، وأن نؤدي جواباً</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حسناً لدى منبر المسيح</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الرهيب، الرب نسأل.</a:t>
            </a:r>
            <a:endParaRPr b="0" lang="en-US" sz="36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304920"/>
            <a:ext cx="8915400" cy="6175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سأل الوحدة في الإيمان، وشركة الروح لاقدس،</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لنودع المسيح الإله ذوات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بعضنا بعض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أهلنا، أيها السيد، لأن نجسر بدالة وبلا دينونة على</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أن ندعوك أباً، أنت الإله السماوي، ونقو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ـوف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صلاة الربي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4648320" y="0"/>
            <a:ext cx="4190760" cy="9158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9966"/>
                </a:solidFill>
                <a:latin typeface="Times New Roman"/>
                <a:ea typeface="Simplified Arabic"/>
              </a:rPr>
              <a:t>	</a:t>
            </a:r>
            <a:r>
              <a:rPr b="1" i="1" lang="ar-SA" sz="3600" spc="-1" strike="noStrike">
                <a:solidFill>
                  <a:srgbClr val="ff9933"/>
                </a:solidFill>
                <a:latin typeface="Times New Roman"/>
                <a:cs typeface="Simplified Arabic"/>
              </a:rPr>
              <a:t>أبانا الذي في السماوات. ليتقدس اسمك. ليأت ملكوتك. لتكن مشيئتك كما في السماء كذلك على الأرض. أعطنا خبزنا كفاف يومنا. واغفر لنا خطايانا. كما نغفر نحن لمن أساء إلينا. ولا تدخلنا في التجارب.لكن نجنا من الشرير.</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6" name="31708723cFLzrRMjjT_ph" descr=""/>
          <p:cNvPicPr/>
          <p:nvPr/>
        </p:nvPicPr>
        <p:blipFill>
          <a:blip r:embed="rId1"/>
          <a:stretch/>
        </p:blipFill>
        <p:spPr>
          <a:xfrm>
            <a:off x="0" y="0"/>
            <a:ext cx="472428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8915400" cy="7647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ن لك الملك والقدرة والمجد، أيها الآب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لاب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روح القدس ، الآن وكل أوان وإلى دهر الداهر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لجميعكم.</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حنوا رؤسكم لل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بنعمة ابنك الوحيد ورأفته ومحبته للبشر، الذي أنت</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مبارك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معه، ومع روحك القدوس الصالح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محيي، الآن وكل أون وإلى دهر الداهرين.</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304920"/>
            <a:ext cx="8839080" cy="5077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صـلاة المـشارك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 الأقداس للقديس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قدوس واحد، رب واحد، يسوع المسيح، لمجد الله</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الآب. آمين.</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Is Ayios, Is Kyrios, Iissous khristos, is dhoxan Theou Patros. Ame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8915400" cy="8655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ا البيت المقدس والداخلين إليه بإيمان وورع ومخافة الله،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رئيس كهنتنا ... الموقر وكهنته المكرمين والشمامسة الخدام بالمسيح</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وجميع الاكليروس والشعب،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حكامنا ومساعديهم وجنودهم ولأجل مؤازرتهم في كل عمل صالح،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8638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صلاوات استعدادية للتناول</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أنا أومن يا رب وأعترف، أنك أنت حقاً المسيح ابن الله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حي، الذي أتى إلى العالم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يخلص الخطأة، الذين أولهم أن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ومن أيضاً أن هذا هو جسدك الطاهر، وهذا هو دمك</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كريم. فأطلب إذن إليك أن ارحمني وتجاوز عما زللت به،</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عمداً أو سهواً، القول أو بالفعل، عن معرفة أو عن جهل.</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هلني لأن أتناول بلا دينونة أسرارك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طاهرة، لغفران</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خطايا وللحياة الأبدية. آ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إقبلني اليوم شريكاً في عشائك السري، يا ابن الله. فاني ل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أقول سرك لأعدائك، ولا أقبّلك مثل يهوذا. بل كاللص أعترف</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ك: أذكرني يا رب في ملكوتك.</a:t>
            </a:r>
            <a:endParaRPr b="0" lang="en-US" sz="3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ا يكن لي تناول أسرارك المقدسة، يا رب للدينونة أو</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لقضاء، بل لشفاء النفس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والجسد</a:t>
            </a:r>
            <a:r>
              <a:rPr b="1" i="1" lang="ar-SA" sz="32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11287866lcpLYmOAJB_ph" descr=""/>
          <p:cNvPicPr/>
          <p:nvPr/>
        </p:nvPicPr>
        <p:blipFill>
          <a:blip r:embed="rId1"/>
          <a:stretch/>
        </p:blipFill>
        <p:spPr>
          <a:xfrm>
            <a:off x="0" y="0"/>
            <a:ext cx="9144000" cy="6858000"/>
          </a:xfrm>
          <a:prstGeom prst="rect">
            <a:avLst/>
          </a:prstGeom>
          <a:ln w="0">
            <a:noFill/>
          </a:ln>
        </p:spPr>
      </p:pic>
      <p:sp>
        <p:nvSpPr>
          <p:cNvPr id="101" name=""/>
          <p:cNvSpPr/>
          <p:nvPr/>
        </p:nvSpPr>
        <p:spPr>
          <a:xfrm>
            <a:off x="7238880" y="457200"/>
            <a:ext cx="16002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rPr>
              <a:t>كما يشتاقُ الأيّل إلى مجاري الميا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0" y="457200"/>
            <a:ext cx="1828800" cy="68680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هكذا نفسي تشتاق إليك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يا ر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03" name="11287869xQRiyRyaRq_ph" descr=""/>
          <p:cNvPicPr/>
          <p:nvPr/>
        </p:nvPicPr>
        <p:blipFill>
          <a:blip r:embed="rId1"/>
          <a:stretch/>
        </p:blipFill>
        <p:spPr>
          <a:xfrm>
            <a:off x="0" y="0"/>
            <a:ext cx="6054840" cy="6858000"/>
          </a:xfrm>
          <a:prstGeom prst="rect">
            <a:avLst/>
          </a:prstGeom>
          <a:ln w="0">
            <a:noFill/>
          </a:ln>
        </p:spPr>
      </p:pic>
      <p:sp>
        <p:nvSpPr>
          <p:cNvPr id="104" name=""/>
          <p:cNvSpPr/>
          <p:nvPr/>
        </p:nvSpPr>
        <p:spPr>
          <a:xfrm>
            <a:off x="6248520" y="457200"/>
            <a:ext cx="2895480" cy="835812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imes New Roman"/>
                <a:cs typeface="Arabic Transparent"/>
              </a:rPr>
              <a:t>ظمئت نفسي إلى الله الحي</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imes New Roman"/>
                <a:cs typeface="Arabic Transparent"/>
              </a:rPr>
              <a:t>متى آتي وأَحضَُر </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imes New Roman"/>
                <a:cs typeface="Arabic Transparent"/>
              </a:rPr>
              <a:t>أمام الل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05" name="1507793AQtFtoRTjq_ph" descr=""/>
          <p:cNvPicPr/>
          <p:nvPr/>
        </p:nvPicPr>
        <p:blipFill>
          <a:blip r:embed="rId1"/>
          <a:stretch/>
        </p:blipFill>
        <p:spPr>
          <a:xfrm>
            <a:off x="0" y="0"/>
            <a:ext cx="4343400" cy="6858000"/>
          </a:xfrm>
          <a:prstGeom prst="rect">
            <a:avLst/>
          </a:prstGeom>
          <a:ln w="0">
            <a:noFill/>
          </a:ln>
        </p:spPr>
      </p:pic>
      <p:sp>
        <p:nvSpPr>
          <p:cNvPr id="106" name=""/>
          <p:cNvSpPr/>
          <p:nvPr/>
        </p:nvSpPr>
        <p:spPr>
          <a:xfrm>
            <a:off x="4552920" y="149400"/>
            <a:ext cx="4562640" cy="927936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قد كان لي دمعي خبزاً نهاراً وليلا</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حين قيل لي كلَّ يوم أين إلهُك</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لماذا تكتئبين يا نفسي</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سأعودُ أعترف له أنت خلاصُ وجهي وإلهي</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11287866lcpLYmOAJB_ph" descr=""/>
          <p:cNvPicPr/>
          <p:nvPr/>
        </p:nvPicPr>
        <p:blipFill>
          <a:blip r:embed="rId1"/>
          <a:stretch/>
        </p:blipFill>
        <p:spPr>
          <a:xfrm>
            <a:off x="0" y="0"/>
            <a:ext cx="9144000" cy="6858000"/>
          </a:xfrm>
          <a:prstGeom prst="rect">
            <a:avLst/>
          </a:prstGeom>
          <a:ln w="0">
            <a:noFill/>
          </a:ln>
        </p:spPr>
      </p:pic>
      <p:sp>
        <p:nvSpPr>
          <p:cNvPr id="108" name=""/>
          <p:cNvSpPr/>
          <p:nvPr/>
        </p:nvSpPr>
        <p:spPr>
          <a:xfrm>
            <a:off x="7238880" y="457200"/>
            <a:ext cx="16002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rPr>
              <a:t>كما يشتاقُ الأيّل إلى مجاري الميا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
          <p:cNvSpPr/>
          <p:nvPr/>
        </p:nvSpPr>
        <p:spPr>
          <a:xfrm>
            <a:off x="0" y="457200"/>
            <a:ext cx="1828800" cy="68680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هكذا نفسي تشتاق إليك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يا ر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13385303cWwlWnYqMS_ph" descr=""/>
          <p:cNvPicPr/>
          <p:nvPr/>
        </p:nvPicPr>
        <p:blipFill>
          <a:blip r:embed="rId1"/>
          <a:stretch/>
        </p:blipFill>
        <p:spPr>
          <a:xfrm>
            <a:off x="4521240" y="0"/>
            <a:ext cx="9244080" cy="6858000"/>
          </a:xfrm>
          <a:prstGeom prst="rect">
            <a:avLst/>
          </a:prstGeom>
          <a:ln w="0">
            <a:noFill/>
          </a:ln>
        </p:spPr>
      </p:pic>
      <p:sp>
        <p:nvSpPr>
          <p:cNvPr id="111" name=""/>
          <p:cNvSpPr/>
          <p:nvPr/>
        </p:nvSpPr>
        <p:spPr>
          <a:xfrm>
            <a:off x="228600" y="304920"/>
            <a:ext cx="3809880" cy="60796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في النهار يأمرُ الربُ برحمته</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Times New Roman"/>
              </a:rPr>
              <a:t>وفي الليل </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أ</a:t>
            </a:r>
            <a:r>
              <a:rPr b="1" lang="ar-SA" sz="5400" spc="-1" strike="noStrike">
                <a:solidFill>
                  <a:srgbClr val="ffffff"/>
                </a:solidFill>
                <a:latin typeface="Times New Roman"/>
                <a:cs typeface="Times New Roman"/>
              </a:rPr>
              <a:t>نشد  صلاة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Times New Roman"/>
              </a:rPr>
              <a:t>لإله حيات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2286622bSprOQQocd_ph" descr=""/>
          <p:cNvPicPr/>
          <p:nvPr/>
        </p:nvPicPr>
        <p:blipFill>
          <a:blip r:embed="rId1"/>
          <a:stretch/>
        </p:blipFill>
        <p:spPr>
          <a:xfrm>
            <a:off x="-2362320" y="-304920"/>
            <a:ext cx="7620120" cy="6858000"/>
          </a:xfrm>
          <a:prstGeom prst="rect">
            <a:avLst/>
          </a:prstGeom>
          <a:ln w="0">
            <a:noFill/>
          </a:ln>
        </p:spPr>
      </p:pic>
      <p:sp>
        <p:nvSpPr>
          <p:cNvPr id="113" name=""/>
          <p:cNvSpPr/>
          <p:nvPr/>
        </p:nvSpPr>
        <p:spPr>
          <a:xfrm>
            <a:off x="5867280" y="270000"/>
            <a:ext cx="27590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572000" y="453960"/>
            <a:ext cx="4572000" cy="80074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Arabic Transparent"/>
              </a:rPr>
              <a:t>أقول له لماذا نسيتني </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Arabic Transparent"/>
              </a:rPr>
              <a:t>فأنت صخرتي</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Arabic Transparent"/>
              </a:rPr>
              <a:t>لماذا تكتئبينَ يا نفسي</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Times New Roman"/>
              </a:rPr>
              <a:t>سأعود أعترفُ له </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Times New Roman"/>
              </a:rPr>
              <a:t>أنت خلاص وجهي وإله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11287866lcpLYmOAJB_ph" descr=""/>
          <p:cNvPicPr/>
          <p:nvPr/>
        </p:nvPicPr>
        <p:blipFill>
          <a:blip r:embed="rId1"/>
          <a:stretch/>
        </p:blipFill>
        <p:spPr>
          <a:xfrm>
            <a:off x="0" y="0"/>
            <a:ext cx="9144000" cy="6858000"/>
          </a:xfrm>
          <a:prstGeom prst="rect">
            <a:avLst/>
          </a:prstGeom>
          <a:ln w="0">
            <a:noFill/>
          </a:ln>
        </p:spPr>
      </p:pic>
      <p:sp>
        <p:nvSpPr>
          <p:cNvPr id="116" name=""/>
          <p:cNvSpPr/>
          <p:nvPr/>
        </p:nvSpPr>
        <p:spPr>
          <a:xfrm>
            <a:off x="7238880" y="457200"/>
            <a:ext cx="16002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rPr>
              <a:t>كما يشتاقُ الأيّل إلى مجاري الميا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0" y="457200"/>
            <a:ext cx="1828800" cy="68680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هكذا نفسي تشتاق إليك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يا ر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26912293PUEHaBMxGM_ph" descr=""/>
          <p:cNvPicPr/>
          <p:nvPr/>
        </p:nvPicPr>
        <p:blipFill>
          <a:blip r:embed="rId1"/>
          <a:stretch/>
        </p:blipFill>
        <p:spPr>
          <a:xfrm>
            <a:off x="0" y="0"/>
            <a:ext cx="5500800" cy="6858000"/>
          </a:xfrm>
          <a:prstGeom prst="rect">
            <a:avLst/>
          </a:prstGeom>
          <a:ln w="0">
            <a:noFill/>
          </a:ln>
        </p:spPr>
      </p:pic>
      <p:sp>
        <p:nvSpPr>
          <p:cNvPr id="119" name=""/>
          <p:cNvSpPr/>
          <p:nvPr/>
        </p:nvSpPr>
        <p:spPr>
          <a:xfrm>
            <a:off x="5715000" y="304920"/>
            <a:ext cx="3048120" cy="7623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يا والدةَ الإله (</a:t>
            </a:r>
            <a:r>
              <a:rPr b="1" lang="ar-SA" sz="4000" spc="-1" strike="noStrike">
                <a:solidFill>
                  <a:srgbClr val="000000"/>
                </a:solidFill>
                <a:latin typeface="Times New Roman"/>
                <a:ea typeface="Arabic Transparent"/>
              </a:rPr>
              <a:t>2</a:t>
            </a:r>
            <a:r>
              <a:rPr b="1" lang="ar-SA" sz="4000" spc="-1" strike="noStrike">
                <a:solidFill>
                  <a:srgbClr val="000000"/>
                </a:solidFill>
                <a:latin typeface="Times New Roman"/>
                <a:ea typeface="Arabic Transparent"/>
              </a:rPr>
              <a:t>)</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أنتِ فخرُ الأرضِ كلِّه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لأن كلمةَ اللهَ الذي أرسله الآ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شاء فتجسَّدَ منكِ</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6917888lHFpuqVeTj_ph" descr=""/>
          <p:cNvPicPr/>
          <p:nvPr/>
        </p:nvPicPr>
        <p:blipFill>
          <a:blip r:embed="rId1"/>
          <a:stretch/>
        </p:blipFill>
        <p:spPr>
          <a:xfrm>
            <a:off x="0" y="0"/>
            <a:ext cx="5477040" cy="6858000"/>
          </a:xfrm>
          <a:prstGeom prst="rect">
            <a:avLst/>
          </a:prstGeom>
          <a:ln w="0">
            <a:noFill/>
          </a:ln>
        </p:spPr>
      </p:pic>
      <p:sp>
        <p:nvSpPr>
          <p:cNvPr id="121" name=""/>
          <p:cNvSpPr/>
          <p:nvPr/>
        </p:nvSpPr>
        <p:spPr>
          <a:xfrm>
            <a:off x="5715000" y="304920"/>
            <a:ext cx="3048120" cy="98967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لأن الأجيال تطوّب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يا ممتلئة نعم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الأمم</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و الشعوب تكرم تذكار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ويسألون المراحم بصلواتِ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0"/>
            <a:ext cx="9372600" cy="84031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ه البلدة وكل مدينة وقرية، والمؤمنين الساكنين فيها، إلى الرب نطلب</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المسافرين في البحر والبر والجو، والمرضى والمتعبين والمسبيين، إلى الرب نطلب</a:t>
            </a:r>
            <a:endParaRPr b="0" lang="en-US" sz="3600" spc="-1" strike="noStrike">
              <a:solidFill>
                <a:srgbClr val="000000"/>
              </a:solidFill>
              <a:latin typeface="Times New Roman"/>
            </a:endParaRPr>
          </a:p>
          <a:p>
            <a:pPr algn="r" rtl="1">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Times New Roman"/>
              </a:rPr>
              <a:t>لأجل نجاتنا من كل ضيق وغضب وخطر وشدة، إلى الرب نطل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عضدنا وخلصنا وارحمنا واحفظنا، يا الله بنعمت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26912293PUEHaBMxGM_ph" descr=""/>
          <p:cNvPicPr/>
          <p:nvPr/>
        </p:nvPicPr>
        <p:blipFill>
          <a:blip r:embed="rId1"/>
          <a:stretch/>
        </p:blipFill>
        <p:spPr>
          <a:xfrm>
            <a:off x="0" y="0"/>
            <a:ext cx="5500800" cy="6858000"/>
          </a:xfrm>
          <a:prstGeom prst="rect">
            <a:avLst/>
          </a:prstGeom>
          <a:ln w="0">
            <a:noFill/>
          </a:ln>
        </p:spPr>
      </p:pic>
      <p:sp>
        <p:nvSpPr>
          <p:cNvPr id="123" name=""/>
          <p:cNvSpPr/>
          <p:nvPr/>
        </p:nvSpPr>
        <p:spPr>
          <a:xfrm>
            <a:off x="5715000" y="304920"/>
            <a:ext cx="3048120" cy="7623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يا والدةَ الإله (</a:t>
            </a:r>
            <a:r>
              <a:rPr b="1" lang="ar-SA" sz="4000" spc="-1" strike="noStrike">
                <a:solidFill>
                  <a:srgbClr val="000000"/>
                </a:solidFill>
                <a:latin typeface="Times New Roman"/>
                <a:ea typeface="Arabic Transparent"/>
              </a:rPr>
              <a:t>2</a:t>
            </a:r>
            <a:r>
              <a:rPr b="1" lang="ar-SA" sz="4000" spc="-1" strike="noStrike">
                <a:solidFill>
                  <a:srgbClr val="000000"/>
                </a:solidFill>
                <a:latin typeface="Times New Roman"/>
                <a:ea typeface="Arabic Transparent"/>
              </a:rPr>
              <a:t>)</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أنتِ فخرُ الأرضِ كلِّه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لأن كلمةَ اللهَ الذي أرسله الآ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شاء فتجسَّدَ منكِ</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6917933UCprVABRTe_ph" descr=""/>
          <p:cNvPicPr/>
          <p:nvPr/>
        </p:nvPicPr>
        <p:blipFill>
          <a:blip r:embed="rId1"/>
          <a:stretch/>
        </p:blipFill>
        <p:spPr>
          <a:xfrm>
            <a:off x="0" y="0"/>
            <a:ext cx="5410080" cy="6858000"/>
          </a:xfrm>
          <a:prstGeom prst="rect">
            <a:avLst/>
          </a:prstGeom>
          <a:ln w="0">
            <a:noFill/>
          </a:ln>
        </p:spPr>
      </p:pic>
      <p:sp>
        <p:nvSpPr>
          <p:cNvPr id="125" name=""/>
          <p:cNvSpPr/>
          <p:nvPr/>
        </p:nvSpPr>
        <p:spPr>
          <a:xfrm>
            <a:off x="5715000" y="380880"/>
            <a:ext cx="2895480" cy="9452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يا مباركةً في النساء</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أيها الحقل الخيّ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الذي فيه نبتت سنابل الأفراح</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الجنة الحاوية شجرة الحياة</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32680020OdvpVt_ph" descr=""/>
          <p:cNvPicPr/>
          <p:nvPr/>
        </p:nvPicPr>
        <p:blipFill>
          <a:blip r:embed="rId1"/>
          <a:stretch/>
        </p:blipFill>
        <p:spPr>
          <a:xfrm>
            <a:off x="0" y="1447920"/>
            <a:ext cx="9144000" cy="5410080"/>
          </a:xfrm>
          <a:prstGeom prst="rect">
            <a:avLst/>
          </a:prstGeom>
          <a:ln w="0">
            <a:noFill/>
          </a:ln>
        </p:spPr>
      </p:pic>
      <p:sp>
        <p:nvSpPr>
          <p:cNvPr id="127" name=""/>
          <p:cNvSpPr/>
          <p:nvPr/>
        </p:nvSpPr>
        <p:spPr>
          <a:xfrm>
            <a:off x="0" y="0"/>
            <a:ext cx="9144000" cy="2666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Arabic Transparent"/>
              </a:rPr>
              <a:t>يا مَن يومَ ظهورِكَ يخرج للقائِكَ</a:t>
            </a:r>
            <a:r>
              <a:rPr b="1" lang="en-US" sz="3600" spc="-1" strike="noStrike">
                <a:solidFill>
                  <a:srgbClr val="000000"/>
                </a:solidFill>
                <a:latin typeface="Times New Roman"/>
                <a:ea typeface="Arabic Transparent"/>
              </a:rPr>
              <a:t>  -  </a:t>
            </a:r>
            <a:r>
              <a:rPr b="1" lang="ar-SA" sz="3600" spc="-1" strike="noStrike">
                <a:solidFill>
                  <a:srgbClr val="000000"/>
                </a:solidFill>
                <a:latin typeface="Times New Roman"/>
                <a:cs typeface="Arabic Transparent"/>
              </a:rPr>
              <a:t>الأبرارُ والصّديقون(</a:t>
            </a:r>
            <a:r>
              <a:rPr b="1" lang="ar-SA" sz="3600" spc="-1" strike="noStrike">
                <a:solidFill>
                  <a:srgbClr val="000000"/>
                </a:solidFill>
                <a:latin typeface="Times New Roman"/>
                <a:ea typeface="Arabic Transparent"/>
              </a:rPr>
              <a:t>2</a:t>
            </a:r>
            <a:r>
              <a:rPr b="1" lang="en-US" sz="3600" spc="-1" strike="noStrike">
                <a:solidFill>
                  <a:srgbClr val="000000"/>
                </a:solidFill>
                <a:latin typeface="Times New Roman"/>
                <a:ea typeface="Arabic Transparent"/>
              </a:rPr>
              <a:t>(</a:t>
            </a:r>
            <a:endParaRPr b="0" lang="en-US" sz="36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Arabic Transparent"/>
              </a:rPr>
              <a:t>أهّلنا كي نُحصى بينَ أجواقِهِم</a:t>
            </a:r>
            <a:r>
              <a:rPr b="1" lang="en-US" sz="3600" spc="-1" strike="noStrike">
                <a:solidFill>
                  <a:srgbClr val="000000"/>
                </a:solidFill>
                <a:latin typeface="Times New Roman"/>
                <a:ea typeface="Arabic Transparent"/>
              </a:rPr>
              <a:t>      </a:t>
            </a:r>
            <a:r>
              <a:rPr b="1" lang="ar-SA" sz="3600" spc="-1" strike="noStrike">
                <a:solidFill>
                  <a:srgbClr val="000000"/>
                </a:solidFill>
                <a:latin typeface="Times New Roman"/>
                <a:cs typeface="Arabic Transparent"/>
              </a:rPr>
              <a:t>ونرنّم لك بالتسابيح……</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04920" y="347760"/>
            <a:ext cx="832140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خلص يا الله شعبك وبارك ميراثك</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قد نظرنا النور الحقيقي ، واخذنا الروح السماوي ، ووجدنا الايمان الحق ، فلنسجد للثالوث غير المنقسم ، لأنه خلصنا</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تبارك إلهنا كل حين ، الآن وكل أوان والى دهر الداهرين    آمين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لتمتلىء  أفواهنا من تسبحتك يا رب . لأنك أهلتنا لأن نشترك في أسرارك المقدسة  الخالدة الطاهرة . إحفظنا في القداسة ، لنشيد  بمجدك ، ونهذ النهار كله ببرك . هللويا ، هللويا ، هللويا</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0680" y="0"/>
            <a:ext cx="8702640" cy="832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فوا أيها الذين إشتركوا في أسرار المسيح الالهية ، المقدسة ، الطاهرة ، الخالدة ، السماوية ، المحيية ، الرهيبة ، لنشكر الرب شكرا لائق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نشكرك أيها  السيد المحب البشر ،  المحسن الى نفوسنا ، لأنك أهلتنا في اليوم الحاضر أيضاً ، لاسرارك السماوية الخالدة فقوم طرقنا . ثبتنا جميعاً في مخافتك صن حياتنا . وطد خطواتنا . بصلوات  وتضرعات والدة الاله المجيدة مريم ، الدائمة البتولية وجميع  قديسيك</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34800" y="685800"/>
            <a:ext cx="84744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ك أنت تقديسنا ، وإليك نرفع المجد أيها الآب والإبن ، والروح القدس  ،  الآن وكل اوان والى دهر الداهرين       آمين</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ننطلق بسلام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باسم الرب</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ى الرب نطل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ا رب ارحم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8600" y="195120"/>
            <a:ext cx="832176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يا مبارك مباركيك  يا رب ، ومقدس المتوكلين عليك ، خلص شعبك وبارك ميراثك . احفظ  كمال كنيستك. قدس المحبين جمال بيتك . انت عوضهم عن ذلك مجدا بقدرتك الالهية ، ولا تهملنا نحن المتوكلين عليك . هب السلام لعالمك ولكنائسك ، وللكهنة ولحكامنا ، وللجنود ولكل شعبك . لأن كل عطية  صالحة ، وكل موهبة</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املة ، هي من العلاء منحدرة ، من لدنك يا ابا  الانوار . واليك نرفع  المجد والشكر والسجود  ، ايها الآب والابن والروح القدس ، الآن وكل اوان والى دهر الداهرين</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آمين - ليكن اسم الرب مباركا ، من الآن والى الدهر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44360" y="0"/>
            <a:ext cx="885528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بركة الرب ورحمته تأتيان عليكم    بنعمته ومحبته للبشر ، كل حين ، الآن وكل أوان والى دهر الداهرين      آميـــــن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مجد لك أيها المسيح الإله رجاؤنا ، المجد لك</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يرحمنا المسيح إلهنا الحقيقي الذي قام من بين الاموات ويخلصنا ، بشفاعة أمه الكاملة الطهارة، والقديسين  المجيدين الرسل الجديرين بكل مديح والقديسين الصديقين جدي الاله يواكيم وحنة ، وجميع القديسين ، بما أنه صالح ومحب للبشر</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بصلوات آبائنا القديسين أيها الرب يسوع المسيح إلهنا ، إرحمنا      آمين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1513539ycDdZUpApJ_ph" descr=""/>
          <p:cNvPicPr/>
          <p:nvPr/>
        </p:nvPicPr>
        <p:blipFill>
          <a:blip r:embed="rId1"/>
          <a:stretch/>
        </p:blipFill>
        <p:spPr>
          <a:xfrm>
            <a:off x="0" y="0"/>
            <a:ext cx="6172200" cy="6858000"/>
          </a:xfrm>
          <a:prstGeom prst="rect">
            <a:avLst/>
          </a:prstGeom>
          <a:ln w="0">
            <a:noFill/>
          </a:ln>
        </p:spPr>
      </p:pic>
      <p:sp>
        <p:nvSpPr>
          <p:cNvPr id="134" name=""/>
          <p:cNvSpPr/>
          <p:nvPr/>
        </p:nvSpPr>
        <p:spPr>
          <a:xfrm>
            <a:off x="6172200" y="0"/>
            <a:ext cx="2666880" cy="883800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الربُّ </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يرعاني</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فلا شيءَ</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يُعوِزُني</a:t>
            </a:r>
            <a:r>
              <a:rPr b="0" lang="ar-SA" sz="6000" spc="-1" strike="noStrike">
                <a:solidFill>
                  <a:srgbClr val="000000"/>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35" name="11722214aJLtUnFFfJ_ph" descr=""/>
          <p:cNvPicPr/>
          <p:nvPr/>
        </p:nvPicPr>
        <p:blipFill>
          <a:blip r:embed="rId1"/>
          <a:stretch/>
        </p:blipFill>
        <p:spPr>
          <a:xfrm>
            <a:off x="0" y="0"/>
            <a:ext cx="5748480" cy="6858000"/>
          </a:xfrm>
          <a:prstGeom prst="rect">
            <a:avLst/>
          </a:prstGeom>
          <a:ln w="0">
            <a:noFill/>
          </a:ln>
        </p:spPr>
      </p:pic>
      <p:sp>
        <p:nvSpPr>
          <p:cNvPr id="136" name=""/>
          <p:cNvSpPr/>
          <p:nvPr/>
        </p:nvSpPr>
        <p:spPr>
          <a:xfrm>
            <a:off x="5791320" y="304920"/>
            <a:ext cx="3352680" cy="95752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في مراعٍ خصيبةٍ يُقيلني ومياهَ الراحة يورِدُني</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يردُّ نفسي وسبُلَ البرِّ يهديني</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9822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ذكر سيدتنا الكاملة القداسة، الطاهرة، الفائقة البركات المجيدة، والدة الإله الدائمة البتولية مريم، وجميع القديسين، ولنودع المسيح الإله ذواتنا وبعضنا بعضا 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لك يا ر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يها الرب إلهنا، الذي تمثل عزته، ولا يدرك مجده، ولا تقاس رحمته، ولا يفي وصف بمحبته للبشر، أنت، أيها السيد، إطلع، بتحننك، علينا وعلى هذا البيت المقدس، واجعل مراحمك ورأفتك غزيرة علينا وعلى المصلين معنا</a:t>
            </a:r>
            <a:r>
              <a:rPr b="1" lang="ar-SA" sz="3600" spc="-1" strike="noStrike">
                <a:solidFill>
                  <a:srgbClr val="000000"/>
                </a:solidFill>
                <a:latin typeface="Times New Roman"/>
                <a:ea typeface="Times New Roman"/>
              </a:rPr>
              <a:t>.</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ن</a:t>
            </a:r>
            <a:r>
              <a:rPr b="1" lang="ar-SA" sz="3600" spc="-1" strike="noStrike">
                <a:solidFill>
                  <a:srgbClr val="000000"/>
                </a:solidFill>
                <a:latin typeface="Times New Roman"/>
                <a:cs typeface="Simplified Arabic"/>
              </a:rPr>
              <a:t>ه لك ينبغي كل مجد وإكرام وسجود، أيها الآب</a:t>
            </a:r>
            <a:r>
              <a:rPr b="1" lang="ar-SA" sz="3600" spc="-1" strike="noStrike">
                <a:solidFill>
                  <a:srgbClr val="ff0000"/>
                </a:solidFill>
                <a:latin typeface="Times New Roman"/>
                <a:ea typeface="Simplified Arabic"/>
              </a:rPr>
              <a:t> + </a:t>
            </a:r>
            <a:r>
              <a:rPr b="1" lang="ar-SA" sz="3600" spc="-1" strike="noStrike">
                <a:solidFill>
                  <a:srgbClr val="000000"/>
                </a:solidFill>
                <a:latin typeface="Times New Roman"/>
                <a:cs typeface="Simplified Arabic"/>
              </a:rPr>
              <a:t>والابن والروح القدس، الآن وكل  أوان وإلى دهر الداهرين.</a:t>
            </a:r>
            <a:endParaRPr b="0" lang="en-US" sz="36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 </a:t>
            </a:r>
            <a:r>
              <a:rPr b="1" i="1" lang="ar-SA" sz="4000" spc="-1" strike="noStrike">
                <a:solidFill>
                  <a:srgbClr val="000000"/>
                </a:solidFill>
                <a:latin typeface="Times New Roman"/>
                <a:cs typeface="Simplified Arabic"/>
              </a:rPr>
              <a:t>آمين</a:t>
            </a:r>
            <a:r>
              <a:rPr b="1" i="1" lang="ar-SA"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1513539ycDdZUpApJ_ph" descr=""/>
          <p:cNvPicPr/>
          <p:nvPr/>
        </p:nvPicPr>
        <p:blipFill>
          <a:blip r:embed="rId1"/>
          <a:stretch/>
        </p:blipFill>
        <p:spPr>
          <a:xfrm>
            <a:off x="0" y="0"/>
            <a:ext cx="6172200" cy="6858000"/>
          </a:xfrm>
          <a:prstGeom prst="rect">
            <a:avLst/>
          </a:prstGeom>
          <a:ln w="0">
            <a:noFill/>
          </a:ln>
        </p:spPr>
      </p:pic>
      <p:sp>
        <p:nvSpPr>
          <p:cNvPr id="138" name=""/>
          <p:cNvSpPr/>
          <p:nvPr/>
        </p:nvSpPr>
        <p:spPr>
          <a:xfrm>
            <a:off x="6095880" y="0"/>
            <a:ext cx="2743200" cy="883800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الربُّ </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يرعاني</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فلا شيءَ</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يُعوِزُني</a:t>
            </a:r>
            <a:r>
              <a:rPr b="0" lang="ar-SA" sz="6000" spc="-1" strike="noStrike">
                <a:solidFill>
                  <a:srgbClr val="000000"/>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39" name="1513720KKRTabSSPZ_ph" descr=""/>
          <p:cNvPicPr/>
          <p:nvPr/>
        </p:nvPicPr>
        <p:blipFill>
          <a:blip r:embed="rId1"/>
          <a:stretch/>
        </p:blipFill>
        <p:spPr>
          <a:xfrm>
            <a:off x="0" y="0"/>
            <a:ext cx="5715000" cy="6858000"/>
          </a:xfrm>
          <a:prstGeom prst="rect">
            <a:avLst/>
          </a:prstGeom>
          <a:ln w="0">
            <a:noFill/>
          </a:ln>
        </p:spPr>
      </p:pic>
      <p:sp>
        <p:nvSpPr>
          <p:cNvPr id="140" name=""/>
          <p:cNvSpPr/>
          <p:nvPr/>
        </p:nvSpPr>
        <p:spPr>
          <a:xfrm>
            <a:off x="5791320" y="0"/>
            <a:ext cx="3352680" cy="9969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99"/>
                </a:solidFill>
                <a:latin typeface="Times New Roman"/>
                <a:cs typeface="Times New Roman"/>
              </a:rPr>
              <a:t>إني ولو سلكتُ في وادي ظلال الموت لا أخافُ سوءاً لأنك معي عصاك وعُكّازُك هما يعزياني</a:t>
            </a:r>
            <a:r>
              <a:rPr b="0" lang="ar-SA" sz="2400" spc="-1" strike="noStrike">
                <a:solidFill>
                  <a:srgbClr val="ffff99"/>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1513539ycDdZUpApJ_ph" descr=""/>
          <p:cNvPicPr/>
          <p:nvPr/>
        </p:nvPicPr>
        <p:blipFill>
          <a:blip r:embed="rId1"/>
          <a:stretch/>
        </p:blipFill>
        <p:spPr>
          <a:xfrm>
            <a:off x="0" y="0"/>
            <a:ext cx="6172200" cy="6858000"/>
          </a:xfrm>
          <a:prstGeom prst="rect">
            <a:avLst/>
          </a:prstGeom>
          <a:ln w="0">
            <a:noFill/>
          </a:ln>
        </p:spPr>
      </p:pic>
      <p:sp>
        <p:nvSpPr>
          <p:cNvPr id="142" name=""/>
          <p:cNvSpPr/>
          <p:nvPr/>
        </p:nvSpPr>
        <p:spPr>
          <a:xfrm>
            <a:off x="6172200" y="0"/>
            <a:ext cx="2666880" cy="883800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الربُّ </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يرعاني</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فلا شيءَ</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يُعوِزُني</a:t>
            </a:r>
            <a:r>
              <a:rPr b="0" lang="ar-SA" sz="6000" spc="-1" strike="noStrike">
                <a:solidFill>
                  <a:srgbClr val="000000"/>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33970022KxIDYC_ph" descr=""/>
          <p:cNvPicPr/>
          <p:nvPr/>
        </p:nvPicPr>
        <p:blipFill>
          <a:blip r:embed="rId2"/>
          <a:stretch/>
        </p:blipFill>
        <p:spPr>
          <a:xfrm>
            <a:off x="-46080" y="0"/>
            <a:ext cx="4541760" cy="6858000"/>
          </a:xfrm>
          <a:prstGeom prst="rect">
            <a:avLst/>
          </a:prstGeom>
          <a:ln w="0">
            <a:noFill/>
          </a:ln>
        </p:spPr>
      </p:pic>
      <p:sp>
        <p:nvSpPr>
          <p:cNvPr id="51" name=""/>
          <p:cNvSpPr/>
          <p:nvPr/>
        </p:nvSpPr>
        <p:spPr>
          <a:xfrm>
            <a:off x="4038480" y="304920"/>
            <a:ext cx="510552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Simplified Arabic"/>
              </a:rPr>
              <a:t>ش. </a:t>
            </a:r>
            <a:r>
              <a:rPr b="1" lang="ar-SA" sz="4000" spc="-1" strike="noStrike">
                <a:solidFill>
                  <a:srgbClr val="ffff00"/>
                </a:solidFill>
                <a:latin typeface="Times New Roman"/>
                <a:ea typeface="Simplified Arabic"/>
              </a:rPr>
              <a:t>	</a:t>
            </a:r>
            <a:r>
              <a:rPr b="1" i="1" lang="ar-SA" sz="4000" spc="-1" strike="noStrike">
                <a:solidFill>
                  <a:srgbClr val="ffff00"/>
                </a:solidFill>
                <a:latin typeface="Times New Roman"/>
                <a:cs typeface="Simplified Arabic"/>
              </a:rPr>
              <a:t>بشفاعة والدة الإله، يا مخلص خلصنا</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Simplified Arabic"/>
              </a:rPr>
              <a:t>Tes prezvies tis Theotokou, Soter, sosson imas.</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مجد للآب والابن والروح القدس.</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آن وكل أوان وإلى دهر الداهرين. </a:t>
            </a:r>
            <a:r>
              <a:rPr b="1" i="1" lang="ar-SA" sz="4000" spc="-1" strike="noStrike">
                <a:solidFill>
                  <a:srgbClr val="ffff00"/>
                </a:solidFill>
                <a:latin typeface="Times New Roman"/>
                <a:cs typeface="Times New Roman"/>
              </a:rPr>
              <a:t>آمين</a:t>
            </a:r>
            <a:r>
              <a:rPr b="0" lang="ar-SA" sz="4000" spc="-1" strike="noStrike">
                <a:solidFill>
                  <a:srgbClr val="ffff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2" name="27464458nCLHzxaeRl_ph" descr=""/>
          <p:cNvPicPr/>
          <p:nvPr/>
        </p:nvPicPr>
        <p:blipFill>
          <a:blip r:embed="rId1"/>
          <a:stretch/>
        </p:blipFill>
        <p:spPr>
          <a:xfrm>
            <a:off x="0" y="0"/>
            <a:ext cx="4572000" cy="6858000"/>
          </a:xfrm>
          <a:prstGeom prst="rect">
            <a:avLst/>
          </a:prstGeom>
          <a:ln w="0">
            <a:noFill/>
          </a:ln>
        </p:spPr>
      </p:pic>
      <p:sp>
        <p:nvSpPr>
          <p:cNvPr id="53" name=""/>
          <p:cNvSpPr/>
          <p:nvPr/>
        </p:nvSpPr>
        <p:spPr>
          <a:xfrm>
            <a:off x="4495680" y="0"/>
            <a:ext cx="4648320" cy="10455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كلمة الله، الابن الوحيد، الذي لا يموت. لقد رضيت من أجل خلاصنا، أن تتجسد من والدة الإله القديسة مريم الدائمة البتولية. فتأنست بغير استحالة. وصلبت أيها المسيح الإله، وبالموت وطئت الموت. أنت أحد الثالوث القدوس الممجد مع الآب والروح القدس. خلصنا</a:t>
            </a:r>
            <a:r>
              <a:rPr b="0" lang="ar-S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4572000" y="0"/>
            <a:ext cx="434340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800600" y="304920"/>
            <a:ext cx="4343400" cy="87850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تطواف بالإنجيل المقدس</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cc66"/>
                </a:solidFill>
                <a:latin typeface="Times New Roman"/>
                <a:ea typeface="Times New Roman"/>
              </a:rPr>
              <a:t> </a:t>
            </a:r>
            <a:r>
              <a:rPr b="1" lang="ar-SA" sz="3600" spc="-1" strike="noStrike">
                <a:solidFill>
                  <a:srgbClr val="ffcc66"/>
                </a:solidFill>
                <a:latin typeface="Times New Roman"/>
                <a:cs typeface="Simplified Arabic"/>
              </a:rPr>
              <a:t>الحكمة. فلنقف. هلموا نسجد ونركع للمسيح</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cs typeface="Simplified Arabic"/>
              </a:rPr>
              <a:t>خلصنا يا ابن الله، يا من قام من بين الأموات، نحن المرنمين لك، هللويا.</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جلوســاً</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أناشـيد  ثـم القنــداق</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6" name="24417727XXNUYQqnJP_ph" descr=""/>
          <p:cNvPicPr/>
          <p:nvPr/>
        </p:nvPicPr>
        <p:blipFill>
          <a:blip r:embed="rId1"/>
          <a:stretch/>
        </p:blipFill>
        <p:spPr>
          <a:xfrm>
            <a:off x="0" y="0"/>
            <a:ext cx="48020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8:19:57Z</dcterms:created>
  <dc:creator>SUZANNE.MD</dc:creator>
  <dc:description/>
  <dc:language>en-US</dc:language>
  <cp:lastModifiedBy>USER</cp:lastModifiedBy>
  <dcterms:modified xsi:type="dcterms:W3CDTF">2003-01-24T12:56:17Z</dcterms:modified>
  <cp:revision>16</cp:revision>
  <dc:subject/>
  <dc:title>PowerPoint Presentation</dc:title>
</cp:coreProperties>
</file>